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E19E-9C41-4C94-B261-DC3A6AAB8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710A-A796-46A0-9AF6-BFC7CBE1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003F-B6D9-4E72-B4D7-F6E04833E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C6F9-E493-4498-9C55-A8BB3B461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F8BA-226C-47AB-9E8F-AFE7ED33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41B6-6D5B-43F3-BF29-90E24852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B691-6EC9-45E4-8E6B-1ACD4CBA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BB27-7B01-4DB4-9864-A5537EF1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2597-51FA-40FE-859D-B8B70825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72CD-673F-4556-91D5-1BC33C0C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A34B-1CF2-47A0-8AF0-272F4D5B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BFF0-8C87-4C50-9893-BF6298F0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F99F-423F-49F6-B6DB-9A2478D14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0" y="3911760"/>
              <a:ext cx="4500720" cy="29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rcRect l="0" t="0" r="0" b="12136"/>
            <a:stretch/>
          </p:blipFill>
          <p:spPr>
            <a:xfrm>
              <a:off x="4500720" y="3645000"/>
              <a:ext cx="4643280" cy="32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rcRect l="0" t="0" r="13949" b="-543"/>
            <a:stretch/>
          </p:blipFill>
          <p:spPr>
            <a:xfrm>
              <a:off x="0" y="0"/>
              <a:ext cx="4500720" cy="394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4"/>
            <a:stretch/>
          </p:blipFill>
          <p:spPr>
            <a:xfrm>
              <a:off x="4500720" y="0"/>
              <a:ext cx="4643280" cy="3645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10920" y="2636640"/>
            <a:ext cx="4537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II. világháború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repülőgép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Arial"/>
              </a:rPr>
              <a:t>A „Vörös báró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7640" y="2421000"/>
            <a:ext cx="3708360" cy="20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anfred von Richthofen egy első világháborús hős vol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ivatalosan 80 légicsatát nyert meg, nem hivatalosan még több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0" y="5084640"/>
            <a:ext cx="5796000" cy="19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képen látható a közismert, három fedeles Fokker -e. Az első világháború vége felé, a kétfedeles, mozgékonyabb gépekkel, még egy jó ideig nem bírták lelő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légcsavaros gép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640" y="1052280"/>
            <a:ext cx="38275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Messerschmitt Me109: a német lelemé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háború végéig halálos fegyvernek minősül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Junkers Ju87 „Stuka”: a „légi kábítósz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” zuhanóbombázó, pontos bombázá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724000" y="3933720"/>
            <a:ext cx="34196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pitfir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Ereje háromrétegű szárnyában rejlet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ésőbbi változata még a sugárhajtóművekkel is tartotta a verseny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émet fejlesztés: A sugárhajtóm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4868640"/>
            <a:ext cx="8229600" cy="17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Messerschmitt Me 262 ”Schwalb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Ugrásszerű sebességnövekedé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Igazából 1945-ig prototípus marad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c a levegőb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40384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ngliai légics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Gyorsaság az ügyesség 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earl-harb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meglepetés ere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05520" y="3573000"/>
            <a:ext cx="4038480" cy="17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dway szigete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 elbizakodottság hatal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316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z anyahajó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34920" y="5445000"/>
            <a:ext cx="52578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ülőgép hordozó hajó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ízen úszó kifutópály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atap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genek,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g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földie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63640" y="3213000"/>
            <a:ext cx="633744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tler titkos fegyvereinek egy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áború végé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00 km/h sebes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000 m magassá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2:01:14Z</dcterms:created>
  <dc:creator>Anya</dc:creator>
  <dc:description/>
  <dc:language>en-US</dc:language>
  <cp:lastModifiedBy>Anya</cp:lastModifiedBy>
  <dcterms:modified xsi:type="dcterms:W3CDTF">2012-02-05T19:48:32Z</dcterms:modified>
  <cp:revision>15</cp:revision>
  <dc:subject/>
  <dc:title>A II. világháború repülőgépei</dc:title>
</cp:coreProperties>
</file>